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BE6-C328-4C32-AE29-E0F66E79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AD0-17D4-4229-8E8B-20C08C2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A06-D616-4998-940E-C01292A5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ED0-63FC-44BA-8413-0CF72D26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4FA-D62E-46C7-AE5D-90CF5A62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0DB-4234-4394-A274-4912C8EF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6FE-BC3E-4BD1-9C70-3A9822C1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F9E-41A8-4140-9068-BBC7C7F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7FD-06C5-4338-B5B5-84F9DCE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2FC-C001-42D6-8338-02F5669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A5C-3182-457F-AF0D-6ABF2E2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FF7-D814-4094-A683-D68CDA4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03B-ECAB-4806-A98C-0F73C6F000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685800"/>
            <a:ext cx="6400800" cy="50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838080"/>
            <a:ext cx="6400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6094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1371600" y="762120"/>
            <a:ext cx="624852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39742" r="0" b="31456"/>
          <a:stretch/>
        </p:blipFill>
        <p:spPr>
          <a:xfrm>
            <a:off x="1371600" y="3962520"/>
            <a:ext cx="624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600200" y="144792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182"/>
          <a:stretch/>
        </p:blipFill>
        <p:spPr>
          <a:xfrm>
            <a:off x="1371600" y="8380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853920"/>
            <a:ext cx="6629400" cy="508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54864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1440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371600" y="838080"/>
            <a:ext cx="670572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3960" y="4114800"/>
            <a:ext cx="55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sample sizes here ( 75 and 8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n’t very different, so an arithm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using equal weights seems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1143000" y="838080"/>
            <a:ext cx="6781680" cy="49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4495680"/>
            <a:ext cx="43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ithmetic average: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3:14Z</dcterms:modified>
  <cp:revision>218</cp:revision>
  <dc:subject/>
  <dc:title>Slide 1</dc:title>
</cp:coreProperties>
</file>